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EE47-FF46-48F0-9C6A-668F2E26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5082-5B0E-4B24-846D-B9D07FA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843E-AEBB-41D2-9F19-66B6A3B6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3E78-E969-442F-B77E-9795E0F1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57B-CC22-4089-9494-6ED933A0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7046-418D-45FC-B302-9148F14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18BE-E45F-4F63-8865-B9E82845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9E2-7318-4463-BD74-8F7024F5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97F6-58F5-417E-B984-E88E679C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DE51-A942-410A-8075-0ED4E6D9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3F0-6B2C-4EAA-8C61-CD15385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3AF1-09CE-4447-B386-C4F38A4B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C024-B8D0-4B12-8B48-7566136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429-03E3-455E-9B7F-7665CB03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534A-4C5A-4192-A4DA-0FD3B8D3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CF9E-A95D-439F-8D5E-C7FAC970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B9EA-7F19-499C-99AB-EB5258E0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5E3A-5A1B-4AE7-8551-EEBD341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9164-5B4E-4245-BB28-B55CB9D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CEC6-BCCF-4B0D-B10E-ECEA30D4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8E68-3B9E-4B48-A236-E39EB6E7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01E3-C7ED-4496-9BEF-4F26700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DF5A-0440-439F-B5A6-589B8B51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5025-B53C-4B0A-A19B-3C861AFA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735A-424E-480E-9326-B13065BCCD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307-4636-4131-B529-65347848DB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ir, We Would See Jesus</a:t>
            </a:r>
            <a:endParaRPr b="0" lang="en-US" sz="4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Quarter 9, Lesson 7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ages 28-31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John 3:22 – 4:45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B32A-00C2-428A-B474-0C79FA3F4B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Arriving in Galilee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interest had already spread – John 4:43-45; Matt. 4:12-17; Mk. 1:14-15; Luke 4:14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Galileans had seen His miracles in Jerusalem at Passove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’ message was “good news” that demanded heart-preparation (repentance) for the kingdom of Go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605A-397F-4444-859A-9D080D6A40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2819520" y="2666880"/>
            <a:ext cx="152280" cy="533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1219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sus moves into the great Galilean min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AD0-D51B-4427-A00F-EF8B4E4669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Life of Christ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ptis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mpt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Discip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Mira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rst Passov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In Jude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John Imprison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Woman at Wel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26B2-158C-4790-A8A8-EACA7CAE22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In Judea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 preached in the countryside of Judea – John 3:22-2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ohn’s testimony regarding Jesus – 3:25-3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 am not the Christ, but I am sent before Him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is merely the friend of the central figure (bridegroom), Jesu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esus must become greater while John’s role diminish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DEC-0C7A-4DEA-9C92-A7BCD47028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724280" cy="6886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4120" y="685800"/>
            <a:ext cx="3124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ct location of Aenon is 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 is thought to be on the Perea side of the Jordan where “springs” join toge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76360" y="2971800"/>
            <a:ext cx="2819160" cy="762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05720" y="2590920"/>
            <a:ext cx="237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6216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dern Salim water p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4267440" cy="2946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4A14-B026-4383-A2D4-7708D686E0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John Imprisoned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rod Antipas had no right to be married to Herodias (his brother Philip’s wif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hn was courageous enough to tell the couple what they did not want to he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otential for all men to repent was worth the ris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otential to save Herod from sin and influence others for good was worth the ris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ohn was imprisoned for telling the truth – Matt. 14:1-5; Luke 3:19-2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CEE9-993C-461C-8D32-F46525E5CF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410080" y="1676520"/>
            <a:ext cx="31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ohn was imprisoned at Machaerus, east of the Dead 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2971800"/>
            <a:ext cx="2438280" cy="1447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48F4-F35C-42BB-B536-D6245CDDAF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66"/>
                </a:solidFill>
                <a:latin typeface="Tahoma"/>
              </a:rPr>
              <a:t>Jesus Leaves Judea For Samaria</a:t>
            </a:r>
            <a:endParaRPr b="0" lang="en-US" sz="4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esus’ growing popularity in baptizing more disciples than John raised concerns among the Pharise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was not time for Jesus to be taken prisoner like Joh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t was time to share the potential for living water with the despised Samaritans – John 4:1-4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777-7712-40E6-8EF3-65A3BDCCFA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800600" cy="6886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10080" y="16765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esus went to Sychar, a city of Sam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819160" y="3352680"/>
            <a:ext cx="53316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4496040" cy="34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02920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View of Samari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Tahoma"/>
              </a:rPr>
              <a:t>approaching from S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2933-84C0-4E4E-B32D-48A93D9A19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Tahoma"/>
              </a:rPr>
              <a:t>Opening A Door For Living Water In Samaria</a:t>
            </a:r>
            <a:endParaRPr b="0" lang="en-US" sz="3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ginning with a woman at Jacob’s wel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lling again the kind of heart that God is looking f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lling what all men of all nations should be looking fo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y Samaritans believed Jesus to be  the Saviour of the worl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EE7-D318-4613-9A1D-BA9E136E6B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3:00:45Z</dcterms:created>
  <dc:creator>Terry W. Benton</dc:creator>
  <dc:description/>
  <dc:language>en-US</dc:language>
  <cp:lastModifiedBy>Frank D Vines</cp:lastModifiedBy>
  <dcterms:modified xsi:type="dcterms:W3CDTF">2006-07-30T13:39:04Z</dcterms:modified>
  <cp:revision>13</cp:revision>
  <dc:subject/>
  <dc:title>Sir, We Would See Jesus</dc:title>
</cp:coreProperties>
</file>